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7A19-B10B-4270-892E-3B1ED9FD0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EE8E-06B3-4540-A6CC-280E6747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A230-B91A-455E-9458-6E29F369C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F15C-83FA-4C0D-B2D8-18391635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69D8-BB17-4EA5-B960-D68BD1738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1309-47B6-4DAC-BC66-09026C11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5924-1D77-4EEF-B575-A431DD41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612C-916A-4CD9-A5B0-548D1839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1CBB-15CD-4F32-821C-6DCAE23F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40B2-4CB5-4DA0-B13D-D1D814DB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4052-9FA2-4E7C-B1EF-7AA9478F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38BF-84CE-43D0-B34C-3ACF7BE1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650B-7C9D-407E-887D-45327A08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28E6-ECD1-411D-A247-FDAA49F2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871B-6F64-4035-9F79-AE10AE1A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7B83-623C-4531-8687-CE30C934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7E0B-DEE6-49B3-BDD6-7460738E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35F1-5A61-4218-83F3-94F5A88A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6657-2531-4CE4-9D9D-CBD2DF12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E989-E5F4-452F-BC7B-BC7A197F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8EAA-6ACD-4D8C-973B-8C9858A0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912E-0C5D-4C45-A77F-7DC61B2D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2A07-6B14-49F2-B66E-3299C754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F6E9-2C15-4116-A5BE-B97636EA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22AC-32C0-4DEF-8743-5413F7962CB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D2D0-948C-44D6-8919-89F944F9123F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" Target="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slide" Target="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Give Us A K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rter 5, Lesson 3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 Sam. 16-17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ges 86-90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oints In Review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alom and David had been estranged from each other over the Amnon inciden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a while there was a supposed reconciliat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on Absalom rebelled against his father, making underhanded efforts to take the kingdom from Davi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left Jerusalem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fter David’s Flight From Jerusalem</a:t>
            </a:r>
            <a:br>
              <a:rPr sz="3600"/>
            </a:b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2 Sam. 16:1-22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had troubles along the way –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iba pretended to be his friend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-4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id Mephiboseth stayed so the kingdom would return to him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mei cursed David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-14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Psa. 3 - David’s prayer in adversit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shai feigns loyalty to Absalom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-18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alom defiles David’s concubin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-22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Hushai and Ahithophel Advise Absalom -  </a:t>
            </a: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2 Sam. 16:23-17:14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hithophel: Hunt down and kill David with 12,000 men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:23 -17:4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shai: Get ALL Israel to do battle against David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:5-14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dvice of Hushai chose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ably because of David’s military savvy, as Hushai pointed ou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 of God’s plan to bring disaster on Absalom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Remember David’s prayer in 15:31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David’s Spy System Is Put Into Use</a:t>
            </a:r>
            <a:br>
              <a:rPr sz="3600"/>
            </a:b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2 Sam. 17:15-23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 Sent to David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-22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 the river as quick as possible”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nathan and Ahimaaz almost caugh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id and people crossed that nigh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hithophel Committed Suicide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knew the eventual outcom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ranged his affairs and hanged himself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>
            <a:hlinkClick r:id="" action="ppaction://hlinkshowjump?jump=lastslide"/>
          </p:cNvPr>
          <p:cNvSpPr/>
          <p:nvPr/>
        </p:nvSpPr>
        <p:spPr>
          <a:xfrm>
            <a:off x="6934320" y="617220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Map 2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>
            <a:hlinkClick r:id="rId8" action="ppaction://hlinksldjump"/>
          </p:cNvPr>
          <p:cNvSpPr/>
          <p:nvPr/>
        </p:nvSpPr>
        <p:spPr>
          <a:xfrm>
            <a:off x="617220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Map 1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Preparations For Battle </a:t>
            </a:r>
            <a:br>
              <a:rPr sz="3600"/>
            </a:b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2 Sam. 17:24-29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arrived in Mahanaim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 supporters – Shobi, Machir, Barzilla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provided necessities to Davi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alom prepared forces for battl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asa was his chief captai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id’s nephew; Absalom’s cousi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alom’s army also crossed the Jordan into Gilea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">
            <a:hlinkClick r:id="" action="ppaction://hlinkshowjump?jump=lastslide"/>
          </p:cNvPr>
          <p:cNvSpPr/>
          <p:nvPr/>
        </p:nvSpPr>
        <p:spPr>
          <a:xfrm>
            <a:off x="6934320" y="617220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Map 2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>
            <a:hlinkClick r:id="rId8" action="ppaction://hlinksldjump"/>
          </p:cNvPr>
          <p:cNvSpPr/>
          <p:nvPr/>
        </p:nvSpPr>
        <p:spPr>
          <a:xfrm>
            <a:off x="617220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Map 1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72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 flipH="1" flipV="1">
            <a:off x="5562360" y="2285640"/>
            <a:ext cx="1981080" cy="16765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91520" y="3962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hanaim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409720" y="609480"/>
            <a:ext cx="2667240" cy="19051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696080" y="2819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-debar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286000"/>
            <a:ext cx="1676520" cy="1523880"/>
          </a:xfrm>
          <a:custGeom>
            <a:avLst/>
            <a:gdLst/>
            <a:ahLst/>
            <a:rect l="l" t="t" r="r" b="b"/>
            <a:pathLst>
              <a:path w="1056" h="960">
                <a:moveTo>
                  <a:pt x="0" y="960"/>
                </a:moveTo>
                <a:cubicBezTo>
                  <a:pt x="296" y="948"/>
                  <a:pt x="592" y="936"/>
                  <a:pt x="720" y="816"/>
                </a:cubicBezTo>
                <a:cubicBezTo>
                  <a:pt x="848" y="696"/>
                  <a:pt x="712" y="376"/>
                  <a:pt x="768" y="240"/>
                </a:cubicBezTo>
                <a:cubicBezTo>
                  <a:pt x="824" y="104"/>
                  <a:pt x="1008" y="40"/>
                  <a:pt x="1056" y="0"/>
                </a:cubicBezTo>
              </a:path>
            </a:pathLst>
          </a:custGeom>
          <a:noFill/>
          <a:ln w="76320">
            <a:solidFill>
              <a:srgbClr val="2f13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467480" y="52578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ute of David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5257440" y="3581280"/>
            <a:ext cx="2133720" cy="19814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08" idx="1"/>
            <a:endCxn id="208" idx="1"/>
          </p:cNvCxnSpPr>
          <p:nvPr/>
        </p:nvCxnSpPr>
        <p:spPr>
          <a:xfrm flipH="1" flipV="1" rot="10800000">
            <a:off x="-360" y="3402360"/>
            <a:ext cx="2160" cy="252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2f1311"/>
            </a:solidFill>
            <a:miter/>
          </a:ln>
        </p:spPr>
      </p:cxnSp>
      <p:sp>
        <p:nvSpPr>
          <p:cNvPr id="217" name="">
            <a:hlinkClick r:id="" action="ppaction://hlinkshowjump?jump=previousslide"/>
          </p:cNvPr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43800" y="4648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bbah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6324120" y="3352680"/>
            <a:ext cx="1143000" cy="15242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20120" y="3505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gelim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5867280" y="1828800"/>
            <a:ext cx="1905120" cy="18288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943600" y="1828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ahanaim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962160" y="2133720"/>
            <a:ext cx="1904760" cy="1676160"/>
          </a:xfrm>
          <a:prstGeom prst="line">
            <a:avLst/>
          </a:prstGeom>
          <a:ln w="5724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19920" y="5334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Jerusalem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2743200" y="5181120"/>
            <a:ext cx="3124080" cy="304920"/>
          </a:xfrm>
          <a:prstGeom prst="line">
            <a:avLst/>
          </a:prstGeom>
          <a:ln w="5724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708660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20:35:39Z</dcterms:created>
  <dc:creator>Terry W. Benton</dc:creator>
  <dc:description/>
  <dc:language>en-US</dc:language>
  <cp:lastModifiedBy>Frank D Vines</cp:lastModifiedBy>
  <dcterms:modified xsi:type="dcterms:W3CDTF">2005-07-10T04:13:45Z</dcterms:modified>
  <cp:revision>20</cp:revision>
  <dc:subject/>
  <dc:title>Give Us A King</dc:title>
</cp:coreProperties>
</file>